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17C-CDC4-49FF-9454-85CCBB79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87E8-448E-42B8-A7E2-2036C466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A745-EE8A-4D88-9AFE-9D67C940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4BA-09F3-47D1-9EF6-4B6D14AA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0570-4E86-4E14-9DB0-84538AE6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C1A3-2353-4CE0-90B8-0FB56A05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0248-BD89-41D6-862F-F8D5A541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7650-A558-42D9-87C8-22E62A1F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CD8-FA58-47B2-838A-B6E61522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39C-2387-4F47-9577-F2D987EE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1B3B-38BD-4B71-B2F9-D995B17A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10D-8056-48FA-8126-DDF92CFE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8047-3AC1-44D9-BDB8-668FF045E5F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600" spc="-1" strike="noStrike">
                <a:solidFill>
                  <a:srgbClr val="ff0066"/>
                </a:solidFill>
                <a:latin typeface="Script MT Bold"/>
              </a:rPr>
              <a:t>Elettrostatic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to fenomeno è chiamato da noi scienziati “elettrizzazione per strofinio”. Il palloncino, che ha dato elettroni, è detto “carico positivamente”. Per contro, la sciarpa che ha preso elettroni è detta “carica negativament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Proton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0" lang="it-IT" sz="3200" spc="-1" strike="noStrike">
                <a:solidFill>
                  <a:srgbClr val="ffc000"/>
                </a:solidFill>
                <a:latin typeface="Arial"/>
              </a:rPr>
              <a:t>elettron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però sono amic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ando avviciniamo le cannucce e il palloncino al muro o ai coriandoli, sentono gli </a:t>
            </a:r>
            <a:r>
              <a:rPr b="0" lang="it-IT" sz="3200" spc="-1" strike="noStrike">
                <a:solidFill>
                  <a:srgbClr val="ffc000"/>
                </a:solidFill>
                <a:latin typeface="Arial"/>
              </a:rPr>
              <a:t>elettron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l muro e dei pezzetti di carta e tentano di rimanere uni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prio come dei bravi amic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Script MT Bold"/>
              </a:rPr>
              <a:t>Possiamo anche vedere che il palloncino magico non sa solo rimanere appeso al muro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Script MT Bold"/>
              </a:rPr>
              <a:t>Sa anche cambiare la direzione dell’acqua che esce dal rubinetto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Script MT Bold"/>
              </a:rPr>
              <a:t>Sfreghiamo di nuovo il palloncino con la nostra sciarpa di lana. Apriamo il rubinetto in modo che esca solo un filo d’acqu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Script MT Bold"/>
              </a:rPr>
              <a:t>Se avviciniamo il palloncino all’acqua, vedremo che la forza del palloncino devierà il fluss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4920" y="404640"/>
            <a:ext cx="8209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Script MT Bold"/>
              </a:rPr>
              <a:t>Invece questo, perché fa così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Script MT Bold"/>
              </a:rPr>
              <a:t>Bella domanda! Per rispondere torniamo al nostro amico, l’Atom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Script MT Bold"/>
              </a:rPr>
              <a:t>A volte, gli atomi si prendono per mano, formando dei gruppi chiamati molecole. L’acqua ha una sua molecola, formata da 3 atomi: 2 di idrogeno (che sono gli atomi più piccoli) e l’ossigeno (che invece è molto grosso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Eccola la molecola d’acqu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Si può vedere nel disegno che l’Ossigeno (segnato dalla lettera O) è più grosso. L’idrogeno (quello con la letterina H) è piccolino, e per essere amico dell’ossigeno, ha dovuto dargli il suo elett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L’ossigeno che ha preso g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Elettroni lo segniamo con 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“</a:t>
            </a:r>
            <a:r>
              <a:rPr b="0" lang="it-IT" sz="3200" spc="-1" strike="noStrike">
                <a:solidFill>
                  <a:srgbClr val="ff0000"/>
                </a:solidFill>
                <a:latin typeface="Script MT Bold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” vicino; invece l’idroge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Che lo ha perso si pr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Un “</a:t>
            </a:r>
            <a:r>
              <a:rPr b="0" lang="it-IT" sz="3200" spc="-1" strike="noStrike">
                <a:solidFill>
                  <a:srgbClr val="ff0000"/>
                </a:solidFill>
                <a:latin typeface="Script MT Bold"/>
              </a:rPr>
              <a:t>-</a:t>
            </a: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Segnaposto contenuto 3" descr="Accua.jpg"/>
          <p:cNvPicPr/>
          <p:nvPr/>
        </p:nvPicPr>
        <p:blipFill>
          <a:blip r:embed="rId1"/>
          <a:stretch/>
        </p:blipFill>
        <p:spPr>
          <a:xfrm>
            <a:off x="5240160" y="3068640"/>
            <a:ext cx="3903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Guardando la forma, possiamo quindi dire che nella molecola d’acqua, da un lato ci sono i </a:t>
            </a:r>
            <a:r>
              <a:rPr b="0" lang="it-IT" sz="3200" spc="-1" strike="noStrike">
                <a:solidFill>
                  <a:srgbClr val="ff0000"/>
                </a:solidFill>
                <a:latin typeface="Script MT Bold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, dall’altro c’è il </a:t>
            </a:r>
            <a:r>
              <a:rPr b="0" lang="it-IT" sz="3200" spc="-1" strike="noStrike">
                <a:solidFill>
                  <a:srgbClr val="ff0000"/>
                </a:solidFill>
                <a:latin typeface="Script MT Bold"/>
              </a:rPr>
              <a:t>-</a:t>
            </a: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. Avvicinando il palloncino all’acqua, le molecole dell’acqua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Girano in modo da poter offrire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Loro elettroni, ma così facen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Iniziano a litigare su chi deve darl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E alla fine nessuno li da! Si muovono tutte verso il palloncino, senza però toccarlo per potergli regalare gli elettroni; Questo fenomeno lo chiamiamo “polarizzazion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cript MT Bold"/>
              </a:rPr>
              <a:t>Ecco perché l’acqua non va giù dritt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Segnaposto contenuto 3" descr="images.jpeg"/>
          <p:cNvPicPr/>
          <p:nvPr/>
        </p:nvPicPr>
        <p:blipFill>
          <a:blip r:embed="rId1"/>
          <a:stretch/>
        </p:blipFill>
        <p:spPr>
          <a:xfrm>
            <a:off x="6784920" y="1484280"/>
            <a:ext cx="23590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Script MT Bold"/>
              </a:rPr>
              <a:t>Ci potete credere che un palloncino o una cannuccia possono rimanere attaccati ad una finestra senza colla o nastro adesiv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Script MT Bold"/>
              </a:rPr>
              <a:t>NO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Script MT Bold"/>
              </a:rPr>
              <a:t>Invece è così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ff"/>
                </a:solidFill>
                <a:latin typeface="Script MT Bold"/>
              </a:rPr>
              <a:t>Prendiamo:</a:t>
            </a:r>
            <a:r>
              <a:rPr b="0" lang="it-IT" sz="40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Script MT Bold"/>
              </a:rPr>
              <a:t>una sciarpa di l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11c5ef"/>
                </a:solidFill>
                <a:latin typeface="Script MT Bold"/>
              </a:rPr>
              <a:t>un pallonci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ff00"/>
                </a:solidFill>
                <a:latin typeface="Script MT Bold"/>
              </a:rPr>
              <a:t>delle cannucce</a:t>
            </a:r>
            <a:r>
              <a:rPr b="0" lang="it-IT" sz="4000" spc="-1" strike="noStrike">
                <a:solidFill>
                  <a:srgbClr val="00ff00"/>
                </a:solidFill>
                <a:latin typeface="Arial"/>
              </a:rPr>
              <a:t>.</a:t>
            </a:r>
            <a:r>
              <a:rPr b="0" lang="it-IT" sz="3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sciarpa_pile"/>
          <p:cNvPicPr/>
          <p:nvPr/>
        </p:nvPicPr>
        <p:blipFill>
          <a:blip r:embed="rId1"/>
          <a:stretch/>
        </p:blipFill>
        <p:spPr>
          <a:xfrm>
            <a:off x="6443640" y="1052640"/>
            <a:ext cx="1766880" cy="1989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palloncini1"/>
          <p:cNvPicPr/>
          <p:nvPr/>
        </p:nvPicPr>
        <p:blipFill>
          <a:blip r:embed="rId2"/>
          <a:stretch/>
        </p:blipFill>
        <p:spPr>
          <a:xfrm>
            <a:off x="3348000" y="2781360"/>
            <a:ext cx="2448000" cy="1834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annucce-colorate-21"/>
          <p:cNvPicPr/>
          <p:nvPr/>
        </p:nvPicPr>
        <p:blipFill>
          <a:blip r:embed="rId3"/>
          <a:stretch/>
        </p:blipFill>
        <p:spPr>
          <a:xfrm>
            <a:off x="5003640" y="4724280"/>
            <a:ext cx="256716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1a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9933ff"/>
                </a:solidFill>
                <a:latin typeface="Script MT Bold"/>
              </a:rPr>
              <a:t>Strofiniamo il palloncino gonfio e le cannucce sulla sciarp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9933ff"/>
                </a:solidFill>
                <a:latin typeface="Script MT Bold"/>
              </a:rPr>
              <a:t>Appoggiamo il palloncino e le cannucce sul muro… e lasciamol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9933ff"/>
                </a:solidFill>
                <a:latin typeface="Script MT Bold"/>
              </a:rPr>
              <a:t>Come per magia rimarrano attaccati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828720" y="333000"/>
            <a:ext cx="640080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200" spc="-1" strike="noStrike">
                <a:solidFill>
                  <a:srgbClr val="ebffff"/>
                </a:solidFill>
                <a:latin typeface="Curlz MT"/>
              </a:rPr>
              <a:t>VISTO???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628640"/>
            <a:ext cx="83883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Script MT Bold"/>
              </a:rPr>
              <a:t>Ma attenzione, il nostro palloncino sa fare molto di più: sa catturare i pezzetti piccoli di carta, come i coriandoli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280" y="0"/>
            <a:ext cx="860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Script MT Bold"/>
              </a:rPr>
              <a:t>Prendiamo il palloncino, strofiniamolo di nuovo, e facciamo cadere dei coriandoli sopra</a:t>
            </a:r>
            <a:r>
              <a:rPr b="0" lang="it-IT" sz="4000" spc="-1" strike="noStrike">
                <a:solidFill>
                  <a:srgbClr val="ffffff"/>
                </a:solidFill>
                <a:latin typeface="Script MT Bol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Script MT Bold"/>
              </a:rPr>
              <a:t>               </a:t>
            </a:r>
            <a:r>
              <a:rPr b="0" lang="it-IT" sz="4000" spc="-1" strike="noStrike">
                <a:solidFill>
                  <a:srgbClr val="ffffff"/>
                </a:solidFill>
                <a:latin typeface="Script MT Bold"/>
              </a:rPr>
              <a:t>Indovinate cosa succed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ebffff"/>
                </a:solidFill>
                <a:latin typeface="Curlz MT"/>
              </a:rPr>
              <a:t>WOW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imagesCA32I182"/>
          <p:cNvPicPr/>
          <p:nvPr/>
        </p:nvPicPr>
        <p:blipFill>
          <a:blip r:embed="rId1"/>
          <a:stretch/>
        </p:blipFill>
        <p:spPr>
          <a:xfrm>
            <a:off x="5580000" y="404640"/>
            <a:ext cx="2664000" cy="23655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Script MT Bold"/>
              </a:rPr>
              <a:t>Ecco il responsabi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Script MT Bold"/>
              </a:rPr>
              <a:t>Lui è un atomo, la parte pi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Script MT Bold"/>
              </a:rPr>
              <a:t>Piccola di ogni elemen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Script MT Bold"/>
              </a:rPr>
              <a:t>È composto a sua vol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Script MT Bold"/>
              </a:rPr>
              <a:t>Da due particelle: quella gia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Script MT Bold"/>
              </a:rPr>
              <a:t>È chiamata </a:t>
            </a:r>
            <a:r>
              <a:rPr b="0" lang="it-IT" sz="3600" spc="-1" strike="noStrike">
                <a:solidFill>
                  <a:srgbClr val="ffcc00"/>
                </a:solidFill>
                <a:latin typeface="Script MT Bold"/>
              </a:rPr>
              <a:t>elettrone</a:t>
            </a:r>
            <a:r>
              <a:rPr b="0" lang="it-IT" sz="3600" spc="-1" strike="noStrike">
                <a:solidFill>
                  <a:srgbClr val="000000"/>
                </a:solidFill>
                <a:latin typeface="Script MT Bold"/>
              </a:rPr>
              <a:t>, e gira sempre attorno a quella rossa chiamata </a:t>
            </a:r>
            <a:r>
              <a:rPr b="0" lang="it-IT" sz="3600" spc="-1" strike="noStrike">
                <a:solidFill>
                  <a:srgbClr val="ff0000"/>
                </a:solidFill>
                <a:latin typeface="Script MT Bold"/>
              </a:rPr>
              <a:t>protone</a:t>
            </a:r>
            <a:r>
              <a:rPr b="0" lang="it-IT" sz="3600" spc="-1" strike="noStrike">
                <a:solidFill>
                  <a:srgbClr val="000000"/>
                </a:solidFill>
                <a:latin typeface="Script MT Bold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Script MT Bold"/>
              </a:rPr>
              <a:t>Quando strofiniamo il palloncino o le cannucce con la sciarpa, gli atomi del palloncino regalano alcuni </a:t>
            </a:r>
            <a:r>
              <a:rPr b="0" lang="it-IT" sz="3600" spc="-1" strike="noStrike">
                <a:solidFill>
                  <a:srgbClr val="ffc000"/>
                </a:solidFill>
                <a:latin typeface="Script MT Bold"/>
              </a:rPr>
              <a:t>elettroni</a:t>
            </a:r>
            <a:r>
              <a:rPr b="0" lang="it-IT" sz="3600" spc="-1" strike="noStrike">
                <a:solidFill>
                  <a:srgbClr val="000000"/>
                </a:solidFill>
                <a:latin typeface="Script MT Bold"/>
              </a:rPr>
              <a:t> alla sciarp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1:06:37Z</dcterms:created>
  <dc:creator>utente</dc:creator>
  <dc:description/>
  <dc:language>en-US</dc:language>
  <cp:lastModifiedBy>Laura Polenta</cp:lastModifiedBy>
  <dcterms:modified xsi:type="dcterms:W3CDTF">2011-05-08T17:47:23Z</dcterms:modified>
  <cp:revision>27</cp:revision>
  <dc:subject/>
  <dc:title>L’acqua magnetica</dc:title>
</cp:coreProperties>
</file>